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4E8F0-DEB7-4B37-AED5-B09D8A284E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xam Questions on </a:t>
            </a:r>
            <a:br>
              <a:rPr sz="1200"/>
            </a:br>
            <a:r>
              <a:rPr b="0" lang="en-US" sz="1200" spc="-1" strike="noStrike">
                <a:solidFill>
                  <a:srgbClr val="000000"/>
                </a:solidFill>
                <a:latin typeface="Arial"/>
              </a:rPr>
              <a:t>Of Mice and Me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B English Lit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xam Questions on </a:t>
            </a:r>
            <a:br>
              <a:rPr sz="1200"/>
            </a:br>
            <a:r>
              <a:rPr b="0" lang="en-US" sz="1200" spc="-1" strike="noStrike">
                <a:solidFill>
                  <a:srgbClr val="000000"/>
                </a:solidFill>
                <a:latin typeface="Arial"/>
              </a:rPr>
              <a:t>Of Mice and M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B English Lit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 Top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to Table of Cont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are some possible essay topics suitable for GCSE Level questions on 'Of Mice and Men'. Use these topics for revision by writing or planning the essays and comparing your work with that of a fri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lling of Candy's old dog foreshadowed Lennie's death. Describe the two killings, pointing out any similarities and differences between them.</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the other ranch hands go to town, Lennie, Crooks and Candy are left behind. Describe what each of these three do after the others leave, and explain what they have in common that causes them to be left out. See MODEL ANSWER</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farm that George and Lennie dream of owning one day. When Candy and Crooks join the dream, what part do they foresee themselves playing?</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appears three times in the novel. Briefly describe what takes place on each occasion. On which occasion does she reveal the most about herself, and what is it?</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pet nice things with my fingers, soft things.' Trace in detail the 'sof' things' that Lennie pets in the novel, showing that the petting grows more serious as the novel goes on.</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incident where Lennie crushes Curley's hand. What does this incident reveal about each of these two character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urley is physically aggressive towards Lennie, his wife is sexually provocative. Show how these two characters create trouble for Lennie, and combine to cause his death.</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in the novel suffer from disappointment. Choose any three of the following characters and discuss what reasons they have to be disappointed about their life: Crooks - Curley - George - Cand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haracter do you feel most sorry for in this story? Explain your choice by referring closely to the events of the novel.</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m is the only character in the novel who is not handicapped in some way. Do you ag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to Table of Cont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are some possible essay topics suitable for GCSE Level questions on 'Of Mice and Men'. Use these topics for revision by writing or planning the essays and comparing your work with that of a fri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lling of Candy's old dog foreshadowed Lennie's death. Describe the two killings, pointing out any similarities and differences between them.</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the other ranch hands go to town, Lennie, Crooks and Candy are left behind. Describe what each of these three do after the others leave, and explain what they have in common that causes them to be left out. See MODEL ANSWER</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farm that George and Lennie dream of owning one day. When Candy and Crooks join the dream, what part do they foresee themselves playing?</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appears three times in the novel. Briefly describe what takes place on each occasion. On which occasion does she reveal the most about herself, and what is it?</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pet nice things with my fingers, soft things.' Trace in detail the 'sof' things' that Lennie pets in the novel, showing that the petting grows more serious as the novel goes on.</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incident where Lennie crushes Curley's hand. What does this incident reveal about each of these two character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urley is physically aggressive towards Lennie, his wife is sexually provocative. Show how these two characters create trouble for Lennie, and combine to cause his death.</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in the novel suffer from disappointment. Choose any three of the following characters and discuss what reasons they have to be disappointed about their life: Crooks - Curley - George - Cand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haracter do you feel most sorry for in this story? Explain your choice by referring closely to the events of the novel.</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m is the only character in the novel who is not handicapped in some way. Do you a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does Steinbeck create a sense of insecurity in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some characters may feel insec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s of langu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contribution of the sett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ther features which create a sense of insecu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does Steinbeck create a sense of insecurity in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some characters may feel insec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s of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contribution of th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ther features which create a sense of in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ends where it begins, with George and Lenny, alone by the po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response to the ending of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Your feelings about George’s decision to shoot Len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ays in which Steinbeck prepares us for this 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chooses to end the story in this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the ending suggests that the friendship between George and Lenny was point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ends where it begins, with George and Lenny, alone by the p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response to the ending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Your feelings about George’s decision to shoot Le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ays in which Steinbeck prepares us for this e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chooses to end the story in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the ending suggests that the friendship between George and Lenny was point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es and dreams help people to survive, even if they can never become r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rue is this for characters in Of Mice and 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es and dreams help people to survive, even if they can never become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rue is this for characters in Of Mice and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 how John Steinbeck explores the complex relationship between George and Lenni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keeps them together, and the difficulties they each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brings out differences between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y are different from other people on the fa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Steinbeck’s purpose was in writing about this relation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 how John Steinbeck explores the complex relationship between George and Len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keeps them together, and the difficulties they each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brings out differences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y are different from other people on the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Steinbeck’s purpose was in writing about this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yourself of the description of Lennie’s fight with Curley in the extract belo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the importance of this passage in Of Mice and 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t aspects of Lennie shown in the pass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s revealed about the relationship between George and      Lennie, and about Cur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is passage links with other parts of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importance of the passage in the novel as a wh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yourself of the description of Lennie’s fight with Curley in the extract be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the importance of this passage in Of Mice and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t aspects of Lennie shown in the pa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s revealed about the relationship between George and      Lennie, and about Cur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is passage links with other parts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importance of the passage in the novel as a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characters in Of Mice and Men are shown to be lon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loneliness in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racters who are lon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 shows their lonel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ces and similarities between lonely charac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the writer is saying about lonel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characters in Of Mice and Men are shown to be lon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loneliness in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racters who are lon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 shows their lonel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ces and similarities between lonely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the writer is saying about lonel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d the passage in the novel where Lennie kills Curley’s wife, from the description of the barn to the point when Lennie leaves to go to the bru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begins this passage with the dead pupp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Lennie and Curley’s wife behave in the way they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makes the death seem unavoid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you were surprised when you first read about her death, and w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d the passage in the novel where Lennie kills Curley’s wife, from the description of the barn to the point when Lennie leaves to go to the bru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begins this passage with the dead pup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Lennie and Curley’s wife behave in the way they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makes the death seem unavoid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you were surprised when you first read about her death,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shows us that people can be cruel, or kind, or sometimes a mixture of bo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ree charac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ays in which the different characters are cruel, or kind, or a mixture of bo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y behave as they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you respond to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Steinbeck writes about them to make you respond this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shows us that people can be cruel, or kind, or sometimes a mixture of b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re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ays in which the different characters are cruel, or kind, or a mixture of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y behave as they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you respond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Steinbeck writes about them to make you respond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CCBC9-9D6C-478D-9945-CD4F38549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672B3-5400-4894-A68B-37ED51DAD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C149D-B0F8-478C-8956-BAA54C446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383EE-DBCB-42C9-8485-CE02505A1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31B8F0-63E9-495A-9585-E2A335CFEC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7FB480-1832-4288-B679-00CB38E70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2C070-86A3-4BB1-BFF5-F8C3DDA69D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35EE2-AFC9-4661-B5E6-29B804FF5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BA69A4-D95A-455A-A639-5F88E69D8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611B26-7E38-4254-BB17-175EF7ECA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3CEF2-156E-4335-8BF8-BAC535817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CD190-4BB5-47A7-875A-F6110130E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B1F63-C4D5-4264-B22C-C5C82DD46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B17CA-EFEC-4772-80AB-1BAF64B02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A8A455-956D-4211-BD12-245AA3440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F739BC-9220-4A07-8683-6FE24848D8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091696-1E93-4611-81EB-10C7575410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65076-F31C-449E-B541-D0E11859E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24E76-7200-4DEE-BD5A-6407B292D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67ABE-E4CB-4DB9-9BD2-9F9E5FC69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7E4F1-E67E-4B18-89F8-3AE8E2EC9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70B25-EABD-41DA-B4B5-8C1952DF8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0A310-0D89-49E4-892B-C960D2506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C66E7-6E24-4415-BA8D-83D94D85C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3EE5E-7D65-4B42-898E-620D2DD6812A}"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8605C-C6A7-44E2-B316-202926A65132}"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newi.ac.uk/englishresources/workunits/ks4/fiction/ofmicemen/smallheath/sample.html"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en-GB" sz="4200" spc="-1" strike="noStrike">
                <a:solidFill>
                  <a:srgbClr val="ffffff"/>
                </a:solidFill>
                <a:latin typeface="Arial"/>
              </a:rPr>
              <a:t>Exam Questions on </a:t>
            </a:r>
            <a:br>
              <a:rPr sz="4200"/>
            </a:br>
            <a:r>
              <a:rPr b="1" i="1" lang="en-GB" sz="4200" spc="-1" strike="noStrike">
                <a:solidFill>
                  <a:srgbClr val="ffffff"/>
                </a:solidFill>
                <a:latin typeface="Arial"/>
              </a:rPr>
              <a:t>Of Mice and Men</a:t>
            </a:r>
            <a:br>
              <a:rPr sz="4200"/>
            </a:br>
            <a:endParaRPr b="0" lang="en-US" sz="42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NEAB English Liter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09480" y="533520"/>
            <a:ext cx="7925040" cy="5486400"/>
          </a:xfrm>
          <a:prstGeom prst="rect">
            <a:avLst/>
          </a:prstGeom>
          <a:noFill/>
          <a:ln w="0">
            <a:noFill/>
          </a:ln>
        </p:spPr>
        <p:txBody>
          <a:bodyPr anchor="t">
            <a:normAutofit/>
          </a:bodyPr>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am Topics</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ck to Table of Contents</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low are some possible essay topics suitable for GCSE Level questions on 'Of Mice and Men'. Use these topics for revision by writing or planning the essays and comparing your work with that of a friend.</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illing of Candy's old dog foreshadowed Lennie's death. Describe the two killings, pointing out any similarities and differences between them.</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ll the other ranch hands go to town, Lennie, Crooks and Candy are left behind. Describe what each of these three do after the others leave, and explain what they have in common that causes them to be left out. </a:t>
            </a:r>
            <a:r>
              <a:rPr b="0" lang="en-GB" sz="1200" spc="-1" strike="noStrike" u="sng">
                <a:solidFill>
                  <a:srgbClr val="996666"/>
                </a:solidFill>
                <a:uFillTx/>
                <a:latin typeface="Arial"/>
                <a:hlinkClick r:id="rId1"/>
              </a:rPr>
              <a:t>See MODEL ANSWER</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cribe in some detail the farm that George and Lennie dream of owning one day. When Candy and Crooks join the dream, what part do they foresee themselves playing?</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ley's wife appears three times in the novel. Briefly describe what takes place on each occasion. On which occasion does she reveal the most about herself, and what is it?</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like to pet nice things with my fingers, soft things.' Trace in detail the 'sof' things' that Lennie pets in the novel, showing that the petting grows more serious as the novel goes on.</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cribe in some detail the incident where Lennie crushes Curley's hand. What does this incident reveal about each of these two characters?</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Curley is physically aggressive towards Lennie, his wife is sexually provocative. Show how these two characters create trouble for Lennie, and combine to cause his death.</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people in the novel suffer from disappointment. Choose any three of the following characters and discuss what reasons they have to be disappointed about their life: Crooks - Curley - George - Candy</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character do you feel most sorry for in this story? Explain your choice by referring closely to the events of the novel.</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m is the only character in the novel who is not handicapped in some way. Do you agre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1"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a:solidFill>
                  <a:srgbClr val="000000"/>
                </a:solidFill>
                <a:latin typeface="Comic Sans MS"/>
              </a:rPr>
              <a:t>How does Steinbeck create a sense of insecurity in the novel?</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You should write abou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Why some characters may feel insecur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Uses of languag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The contribution of the setting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Other features which create a sense of in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omic Sans MS"/>
              </a:rPr>
              <a:t>	</a:t>
            </a:r>
            <a:r>
              <a:rPr b="0" i="1" lang="en-GB" sz="2000" spc="-1" strike="noStrike">
                <a:solidFill>
                  <a:srgbClr val="000000"/>
                </a:solidFill>
                <a:latin typeface="Comic Sans MS"/>
              </a:rPr>
              <a:t>Of Mice and Men</a:t>
            </a:r>
            <a:r>
              <a:rPr b="0" lang="en-GB" sz="2000" spc="-1" strike="noStrike">
                <a:solidFill>
                  <a:srgbClr val="000000"/>
                </a:solidFill>
                <a:latin typeface="Comic Sans MS"/>
              </a:rPr>
              <a:t> ends where it begins, with George and Lenny, alone by the poo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at is your response to the ending of the nove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rite abou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Your feelings about George’s decision to shoot Lenn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ays in which Steinbeck prepares us for this end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y the writer chooses to end the story in this wa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ether the ending suggests that the friendship between George and Lenny was pointl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pes and dreams help people to survive, even if they can never become re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true is this for characters in </a:t>
            </a:r>
            <a:r>
              <a:rPr b="0" i="1" lang="en-GB" sz="3200" spc="-1" strike="noStrike">
                <a:solidFill>
                  <a:srgbClr val="000000"/>
                </a:solidFill>
                <a:latin typeface="Arial"/>
              </a:rPr>
              <a:t>Of Mice and Men</a:t>
            </a:r>
            <a:r>
              <a:rPr b="0" lang="en-GB"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7" name="PlaceHolder 2"/>
          <p:cNvSpPr>
            <a:spLocks noGrp="1"/>
          </p:cNvSpPr>
          <p:nvPr>
            <p:ph/>
          </p:nvPr>
        </p:nvSpPr>
        <p:spPr>
          <a:xfrm>
            <a:off x="609480" y="1599840"/>
            <a:ext cx="7925040" cy="4419720"/>
          </a:xfrm>
          <a:prstGeom prst="rect">
            <a:avLst/>
          </a:prstGeom>
          <a:noFill/>
          <a:ln w="0">
            <a:noFill/>
          </a:ln>
        </p:spPr>
        <p:txBody>
          <a:bodyPr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Comic Sans MS"/>
              </a:rPr>
              <a:t>Show how John Steinbeck explores the complex relationship between George and Lennie.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You should write about:</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at keeps them together, and the difficulties they each have</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 writer brings out differences between them</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y are different from other people on the farm</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at you think Steinbeck’s purpose was in writing about this relationsh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Remind yourself of the description of Lennie’s fight with Curley in the extract below.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rite about the importance of this passage in Of Mice and Men.</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Write abou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The different aspects of Lennie shown in the passag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at is revealed about the relationship between George and      Lennie, and about Curley</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How this passage links with other parts of the novel</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The importance of the passage in the novel as a who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Comic Sans MS"/>
              </a:rPr>
              <a:t>Many characters in </a:t>
            </a:r>
            <a:r>
              <a:rPr b="0" i="1" lang="en-GB" sz="2400" spc="-1" strike="noStrike">
                <a:solidFill>
                  <a:srgbClr val="000000"/>
                </a:solidFill>
                <a:latin typeface="Comic Sans MS"/>
              </a:rPr>
              <a:t>Of Mice and Men</a:t>
            </a:r>
            <a:r>
              <a:rPr b="0" lang="en-GB" sz="2400" spc="-1" strike="noStrike">
                <a:solidFill>
                  <a:srgbClr val="000000"/>
                </a:solidFill>
                <a:latin typeface="Comic Sans MS"/>
              </a:rPr>
              <a:t> are shown to be lonely.</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rite about loneliness in the novel.</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You should write about:</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Characters who are lonely</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 write shows their lonelines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The differences and similarities between lonely character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at you think the writer is saying about loneli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13" name="PlaceHolder 2"/>
          <p:cNvSpPr>
            <a:spLocks noGrp="1"/>
          </p:cNvSpPr>
          <p:nvPr>
            <p:ph/>
          </p:nvPr>
        </p:nvSpPr>
        <p:spPr>
          <a:xfrm>
            <a:off x="609480" y="1599840"/>
            <a:ext cx="7925040" cy="4419720"/>
          </a:xfrm>
          <a:prstGeom prst="rect">
            <a:avLst/>
          </a:prstGeom>
          <a:noFill/>
          <a:ln w="0">
            <a:noFill/>
          </a:ln>
        </p:spPr>
        <p:txBody>
          <a:bodyPr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Comic Sans MS"/>
              </a:rPr>
              <a:t>Find the passage in the novel where Lennie kills Curley’s wife, from the description of the barn to the point when Lennie leaves to go to the brush.</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rite about:</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y the writer begins this passage with the dead puppy</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y Lennie and Curley’s wife behave in the way they do</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 writer makes the death seem unavoidable</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ether you were surprised when you first read about her death, and 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1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Of Mice and Men shows us that people can be cruel, or kind, or sometimes a mixture of bot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ompare three charact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rite abou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The ways in which the different characters are cruel, or kind, or a mixture of bot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y they behave as they 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How you respond to th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How Steinbeck writes about them to make you respond this way</a:t>
            </a:r>
            <a:r>
              <a:rPr b="0" lang="en-GB"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8T09:25:18Z</dcterms:created>
  <dc:creator>svanvlo</dc:creator>
  <dc:description/>
  <dc:language>en-US</dc:language>
  <cp:lastModifiedBy>RomaK</cp:lastModifiedBy>
  <dcterms:modified xsi:type="dcterms:W3CDTF">2015-09-04T10:35:48Z</dcterms:modified>
  <cp:revision>8</cp:revision>
  <dc:subject/>
  <dc:title> Exam Questions on  Of Mice and Men </dc:title>
</cp:coreProperties>
</file>